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AD75-5303-499E-8651-2BF801322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88DC-8D51-405B-90C4-6BE276BA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B267-8B62-4CCF-9B9E-6C46FB7D5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8EE0-9953-4C5B-ACF0-D551FF44C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F492-7BD8-4965-B499-A1C9E5F5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0EA7-A20A-43FA-ADF8-28D37446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5885-DFA7-4E13-BDAC-88E66E07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101A-02C8-4CCA-BA48-B2E90BB0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1DB2-8842-4501-A251-507FD18F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D4DE-116E-44DA-9B1B-C2CB4225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A6DE-CA59-4F5F-84BF-8DF448A8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9892-ED36-4212-A1F5-6563C0D1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B862-E133-4328-87EE-3240F3D83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 22.40 potrka na vrata ženska s 6-letnim jokavim otrokom in ga na rokah prinese v ambulanto, rekoč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 včeraj zjutraj šepa, spodbujali smo ga, naj hodi, a ni bilo nič bolje. Danes pa sploh noče več stopiti na desno nogo, jo vleče za sabo in toži za bolečinami pri vsakem premiku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i pregledu ugotov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spekcija kolka in kolena brez poseb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oleno in gleženj prosto gibljiva, nebole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esni kolk fleksija 2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- 9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olečina: desne dimlje in steg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bljivost 2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- 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fleksije (kontraktura), abdukcija 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- 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, zun. rot.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- 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boleč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videzna skrajšanost desne sp. ekst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vrološki status b.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kšna je naša delovna diagnoz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ptični artritis ko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hodni sinovitis ko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kutno poslabšanje displazije ko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Zdrs glavice ko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atero stanje je treba zdraviti takoj (23h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ptični artritis ko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hodni sinovitis ko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kutno poslabšanje displazije ko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Zdrs glavice ko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j je nujen naslednji korak (ob 23h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akoj začeti zdravljenje z antibiotik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Lab. preiskave + UZ kol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Čimprejšnje razgibavanje, lab. preiskave in UZ kolka jut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tg medenice s kolk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9339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do bo opravil UZ kolk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sti, ki je usposobljen za U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ma aseptične pogoje za izvedbo punkcije (če bo indicira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o poslal vzorec na mikrobiološki preg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o v primeru gnojnega punktata znal ukrepati napre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NE ANTIBIOTIKA, DOKLER NI KUŽN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aboratorijske preiskave urgent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 komu bi napotili takšnega pacien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vmatolo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fektolo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ternistična prva pomo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rtop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OZ V BOLNIŠ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01028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. preiskav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P &lt;5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ukociti 8,0 z normalno D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 5 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Z: zmerno velik izliv v desnem kol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14400" y="596880"/>
            <a:ext cx="739152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19200" y="0"/>
            <a:ext cx="5070600" cy="807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j pa zdaj (1h ponoči)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MRI kolka + punkcija v spl. anestezi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unkcija kolka v lok. anestezi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prejem v bolnišnico in opazo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avodila o strogem mirovanju, Rp za Naprosyn sirup in dom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Zdravljenje prehodnega sinovitisa ko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očitek in strogo mirovanje vsaj 1 t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trok naj leži, brez vsakršne h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REZ RAZGIBA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prosyn sirup (NS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vodila glede poslabšanja s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ontrolni pregled/UZ čez 1 t, eventuelni Rtg ob neizboljšanju čez 3 ted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aj je treba storiti z očitnim septičnim artritisom kolka (prizadet febrilen otrok, CRP 120, izliv v kolku) ob 1h zjutraj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akojšnja antibiotična terap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unkcija in nato antibiotična terap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unkcija, op. drenaža sklepa, nato a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RI, punkcija, op. drenaža sklepa, a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i otroku je treba ob septičnem artritisu vedno pomisliti na možnost osteomielitisa, zato je potreben MRI (da se izvede pravilna operativna terapij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Žile za prehrano kolčne glavice potekajo INTRAKAPSULARNO, zato zakasnitev zdravljenja pomeni veliko tveganje za aseptično nekrozo kolčne gla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HODNI SINOVITIS KOL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AKE-HOME-MESS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šepajoč neprizadet afebrilen 4-8 letnik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um na prehodni sinovitis ko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zključiti septični artritis, pri starejših otrocih z velikimi BMI pa tudi zdrs kolčne gla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AKE-HOME-MESS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Večinoma mine brez posledic ob pravilni 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Lahko je to le začetek Perthesove bolez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Bistvena je klinična slika, SPANJE PONOČI, UZ in laboratorijske preisk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apake: odklonitev pacienta, zakasnitev septičnega artritisa, predpisovanje p.o. antibiotika “za vsak primer” (naj dobi i.v. ali pa nič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HODNI SINOVITIS KOL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27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Hvala, ker ste s preiskavami hitro izključili septični artritis in me poslali domov. Zdaj mi bodo starši končno pustili, da v postelji en teden igram Ninte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76520" y="2514600"/>
            <a:ext cx="571500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j storite s paciento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akoj ga NUJNO napotite v bolniš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zdate napotnico, jutri pregled v bolnišn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acienta pregledate in se nato odloč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zdate Rp za analgetik in ga naročite na pregled naslednji d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j je pomembno vprašati v anamnez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iko časa bolečine in kaj ga boli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KO JE SPAL PONOČ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očina? Mrzlica? Viroze zadnji mese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ožilni dejavniki (poškodba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ntane bolečine ali pri obremenjevanj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e bolezni, zdravila, alerg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ečkova mama odgovor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olečine so drugi dan, boli desno steg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onoči se je 1x zbudil zaradi boleč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mel vročino do 3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 včeraj, zdaj 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 spomni se poškod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olečine pri premikanju ali stoje, leže 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dno ne jemlje zdravil, alergij ne nava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j je naš naslednji kora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oizkus punkcije kolka in kol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Klinični pregled spodnjih ekstremi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zdamo napotnico za laboratorijske preiskave vnetnih parametrov (jut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ečka takoj napotimo v bolniš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linični pregled spodnjih ekstremit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spekcija (meritve, primerjava z zdrav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lpacija (oteklina, izliv ali zadebelite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Znaki vnetja (rubor, tumor, dolor, calor, f.l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bseg gibljivosti (iztegnjeno = 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fleksij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vrološki status spodnje ekstremit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oleče to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i kolku smo še posebej pozorni 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lektorna kontraktura (Thomasov te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bsolutna/navidezna/funkcionalna razlika v dolžini spodnjih ekstremi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Šepanje v kolku (bolečina, razlika, parez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 kolku si z inspekcijo in palpacijo ne moremo pomagati (debela plast miš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496040" cy="3981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419720" y="685800"/>
            <a:ext cx="5219640" cy="2476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29200" y="4038480"/>
            <a:ext cx="380988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</cp:lastModifiedBy>
  <dcterms:modified xsi:type="dcterms:W3CDTF">2012-10-02T16:32:28Z</dcterms:modified>
  <cp:revision>1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